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A8D-05D7-4BE9-AB96-BD8A427D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303-3381-4C7B-93C9-3B9C538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9AC-1ED9-4981-85A7-AF144B5A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421-C831-4F40-B260-B35CECEA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2520-1DDB-4054-AFD5-AF750885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3B77-5F61-4460-8C18-C506F411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1215-40FD-43E1-AB32-0DB95FC9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B694-4680-4227-A25A-CD7A1D62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A302-9D97-491A-9E89-92FA0D3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ED52-CC6F-49EF-A8C6-98FB742A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C82A-0608-4EF7-BEB7-17F694F8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5AC-7A5D-4502-AB24-91F32405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9940-0A86-4E8F-B4E0-67B54D07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5D8-B3F0-4016-946E-87664D5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16E-7528-4893-AB4B-54DCFA18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AD11-EF16-477C-83E7-185F5AEF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FA7E-6648-4138-8AE1-0D7FBE59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E57-B013-44E8-913F-E580024E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DD3-6221-493E-A217-523AEE91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98A-276F-4501-8A84-F4EE3CDF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BBB-36C0-4A3C-8E45-27438323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658-3797-4D51-862A-067D10D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998-DC18-412A-833C-8A8E937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1AD-EB9B-4A44-9C33-BFC33DE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B8DD-13D2-4DA9-8050-2203CA5F13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9193-8B08-4FCE-80FA-63F2F3F85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0033"/>
                </a:solidFill>
                <a:latin typeface="Times New Roman"/>
              </a:rPr>
              <a:t>ALTE ROMANE  REALISTE INTERBELICE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68240" y="4037040"/>
            <a:ext cx="60469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57200" y="2857680"/>
            <a:ext cx="64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TE ROMANE  REALISTE INTERBEL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7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Examenul de bacalaureat 201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2</a:t>
            </a:r>
            <a:br>
              <a:rPr sz="900"/>
            </a:b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Proba de evaluare a competenţelor digitale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 – document de lucru</a:t>
            </a:r>
            <a:endParaRPr b="0" lang="en-US" sz="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1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8T11:04:35Z</dcterms:modified>
  <cp:revision>2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